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537-2FBB-42C2-AB9C-04FAC7AA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F74-4F1D-44E7-B9D1-5BD3B900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589-DC5F-4C0D-8545-73969455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E4E-4958-4FF6-9299-EC8BE5CD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79FE-14D7-441E-A636-FD6AE055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76F7-9DF0-4AC4-85B1-CF5B7DA7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2FC0-8BCA-4DAB-926C-CABEF06B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2DC-86BF-4FC1-8C71-E257F310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3D3-29A0-42BF-97E3-5664276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AAD-2143-4A78-9C6F-4F62FA9C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DCF-3555-48B5-9384-2DFA8DA4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09CB-7908-4D51-BCAE-7176119E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AA8B-5292-4126-A60A-2FC0DD3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7B50-1AB4-464D-986A-C26BE86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08B9-9F5B-49F0-B17A-5A6D81E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C218-4A87-4EB4-B558-7E3C0D7F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E30-766C-4A8B-A21D-12D35201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0DCA-BAFE-461F-AB23-29F494A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598-7561-4B13-9737-77445116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B1F-DF86-420C-ABB1-607AAD3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E87B-3B90-4387-B7B1-8A96357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F25A-D006-4ADD-9610-4359431D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89A-839E-4576-8A6E-C7AAD129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93C8-5B1E-4A87-9DBB-11C44D24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9EB6-BE27-4393-819A-07D07DF8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A03F-23EC-4CF3-A6BD-7FE9707F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952E-09E5-4233-BEB9-31238EE8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8873-AECC-4481-8579-24064739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75E1-DCC7-4DDC-823A-97F2C445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E0B-DDFF-4412-A7D2-610FE214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7D0A-0EF6-4219-8EC0-0581D3F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C6DB-0AAE-4A39-9B83-F18F550A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8E18-155E-481B-AFFF-C92BDD5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4ACE-5A54-44F0-9DF7-7F85177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D547-D2C6-4AC8-A71A-7C5AEE7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401E-78D7-4CB2-8B5B-B77AB37D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93D1-ECD3-4AE7-98AE-CC2935EF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4A9D0-F5E3-4DC9-8170-0D22953C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6B711-666E-48C4-BBF5-55571981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B9C91-1055-4A23-9272-4C40C3F2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D74-1146-4694-9B85-8BEDD3A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A014D-91CD-4A0B-9A56-BB5C664C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23EC3-F55B-4A0E-BB1B-4CC79086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DD655-3B98-4A94-8AD5-B71E0F5F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42FE9-099F-48BF-B9CA-9A0E063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838A6-A2ED-4887-B15B-EFCD338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3EC9B-13BD-4E75-AB47-627337B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A2DDB-F321-4900-873B-9F365A6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A19A0-3483-46DF-A057-77357AB0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36B70-C656-4EAE-B130-35B0E3C8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EF3F-0CD7-4112-9DDD-6A215E6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526-DA83-42C5-895C-3B8A2AED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7F2D-4FE9-43E6-94CD-48AB2883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CB7D-9004-4F15-ACC3-C4FD01D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96CA-4450-46D3-96F1-F0BE9522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40D0-CB2C-444E-AF9F-96D83624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669D-7AAC-4888-B7EC-29BB10E2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4F41-08AE-4490-B649-D09E881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0380-4E2B-42B1-A705-0E1B30A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79EF-EEF0-4D8C-98B0-4EE917EB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DFE0-AF4B-4FAD-AE65-76869893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A88F-4DEC-40A8-98D8-7F72C032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387-BABA-485E-91EC-14BFA8B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B1FE-E96B-4BDA-87F5-C257E11E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5254D-83FA-4747-83DE-CEAF60D7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C239C-D062-462C-A55F-A902A2AD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6BC1C-CC0D-40BC-B099-18E468C8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184BA-6301-4CA4-AA37-8E19539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12DE4-F5BC-4DC4-9F73-DED9684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2A81C-9813-4C5C-90A0-04B281B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69D1C-40C6-48A7-A12C-46BCEE5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D13E7-146F-4657-9B1A-EDB9487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04931-2548-4A89-9014-F5ED402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251-57F4-4B6A-A28E-412EBC1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256B9-2436-422D-9FC2-1A03C30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E768A-99B9-4671-8CDD-3CCDDD8B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1290E-5BA0-4B7A-A77A-EEF80A4E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0BF05-22BE-41C0-84FD-1E1B67DB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DF3D0-3337-4471-AC32-0A8C6D18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28D14-F85F-46DA-8B4F-74E1A70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20743-072C-42B0-BF24-CEDDAD42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55A64-B7EC-41E3-86F1-F89A393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9C0C9-A4ED-4FB4-B4CB-7B783C7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51296-B8F5-4ECA-B331-96128F2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9C0-5E78-4C7E-89C7-BDB8B88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6616F-21CA-44FA-A47E-AC12542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A2930-305D-444E-B840-F8A41B1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E2C55-09EF-4DE9-9DBF-953B8794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0C20C-45D8-4ADD-AF46-0631FB06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EC519-C80D-4C0E-9E49-B4678D06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A0BE3-F6D8-41F1-8A89-6CAD5EC1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10A67-FEC9-47E4-B919-8B35E90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2FC49-C482-404F-859E-EFBDE49F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ABEB2-B41B-4E8F-9429-6E6EB7EB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92D56-07CB-4529-AC6F-4D73DE5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DBB-BD04-4292-9141-37719AC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C9DA32-7C68-4FB7-B092-98FC37C2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FCC86-CC82-43EE-B88F-B0BAB557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4195B-5448-4D2B-B360-B676041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82288B-E7BC-4978-8972-7D9C241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F9C09-3F60-4884-BE88-77EE1C00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43A45-995C-4C66-8197-5C6E7A04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59263-90B4-44A2-9902-2EBD8940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349-1DC4-4F1D-99F0-645A70C4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DDB-A936-4BFF-BD34-8426239F5E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9172-6247-42DA-B9E1-25BD2D2F78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819D-F3B7-4683-9FE7-10C562984D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CCE-2649-452E-90B9-5CD8F12945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C1B2-A805-4E8C-93E4-252CA5E5A3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E767-AC80-4D14-B058-DA85EF6350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C9F7-107B-4AC0-AA00-51BB9B31BF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U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9984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d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 place o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430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de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merge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merge=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o arise; to plunge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urb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urb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a city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mari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soni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terrane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trac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bsi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immerse.jpg"/>
          <p:cNvPicPr/>
          <p:nvPr/>
        </p:nvPicPr>
        <p:blipFill>
          <a:blip r:embed="rId1"/>
          <a:stretch/>
        </p:blipFill>
        <p:spPr>
          <a:xfrm>
            <a:off x="7086600" y="380880"/>
            <a:ext cx="118116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submarine.jpg"/>
          <p:cNvPicPr/>
          <p:nvPr/>
        </p:nvPicPr>
        <p:blipFill>
          <a:blip r:embed="rId2"/>
          <a:stretch/>
        </p:blipFill>
        <p:spPr>
          <a:xfrm>
            <a:off x="2209680" y="5105520"/>
            <a:ext cx="2438640" cy="1752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ubtract.jpg"/>
          <p:cNvPicPr/>
          <p:nvPr/>
        </p:nvPicPr>
        <p:blipFill>
          <a:blip r:embed="rId3"/>
          <a:stretch/>
        </p:blipFill>
        <p:spPr>
          <a:xfrm>
            <a:off x="7467480" y="5257800"/>
            <a:ext cx="1476360" cy="1600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suburb.jpg"/>
          <p:cNvPicPr/>
          <p:nvPr/>
        </p:nvPicPr>
        <p:blipFill>
          <a:blip r:embed="rId4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UP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052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o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v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e th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on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tructur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to build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io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vis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titi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natu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6" descr="supernatural.jpg"/>
          <p:cNvPicPr/>
          <p:nvPr/>
        </p:nvPicPr>
        <p:blipFill>
          <a:blip r:embed="rId1"/>
          <a:stretch/>
        </p:blipFill>
        <p:spPr>
          <a:xfrm>
            <a:off x="228600" y="419112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supersitious.jpg"/>
          <p:cNvPicPr/>
          <p:nvPr/>
        </p:nvPicPr>
        <p:blipFill>
          <a:blip r:embed="rId2"/>
          <a:stretch/>
        </p:blipFill>
        <p:spPr>
          <a:xfrm>
            <a:off x="6781680" y="228600"/>
            <a:ext cx="1876680" cy="1219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superstructure.jpg"/>
          <p:cNvPicPr/>
          <p:nvPr/>
        </p:nvPicPr>
        <p:blipFill>
          <a:blip r:embed="rId3"/>
          <a:stretch/>
        </p:blipFill>
        <p:spPr>
          <a:xfrm>
            <a:off x="3124080" y="3352680"/>
            <a:ext cx="1447920" cy="3048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superstitiouss.jpg"/>
          <p:cNvPicPr/>
          <p:nvPr/>
        </p:nvPicPr>
        <p:blipFill>
          <a:blip r:embed="rId4"/>
          <a:stretch/>
        </p:blipFill>
        <p:spPr>
          <a:xfrm>
            <a:off x="7315200" y="5105520"/>
            <a:ext cx="1523880" cy="150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YM-, SYN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67616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t the same ti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get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ik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met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thet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ony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chroniz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dro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hony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ym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at the same time; together; lik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6" descr="symphony.jpg"/>
          <p:cNvPicPr/>
          <p:nvPr/>
        </p:nvPicPr>
        <p:blipFill>
          <a:blip r:embed="rId1"/>
          <a:stretch/>
        </p:blipFill>
        <p:spPr>
          <a:xfrm>
            <a:off x="2819520" y="2895480"/>
            <a:ext cx="2286000" cy="1481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synchronize.jpg"/>
          <p:cNvPicPr/>
          <p:nvPr/>
        </p:nvPicPr>
        <p:blipFill>
          <a:blip r:embed="rId2"/>
          <a:stretch/>
        </p:blipFill>
        <p:spPr>
          <a:xfrm>
            <a:off x="304920" y="4419720"/>
            <a:ext cx="2352600" cy="2133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symmetry.jpg"/>
          <p:cNvPicPr/>
          <p:nvPr/>
        </p:nvPicPr>
        <p:blipFill>
          <a:blip r:embed="rId3"/>
          <a:stretch/>
        </p:blipFill>
        <p:spPr>
          <a:xfrm>
            <a:off x="7238880" y="0"/>
            <a:ext cx="172404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ar off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rom af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vis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grap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6" descr="telephone.jpg"/>
          <p:cNvPicPr/>
          <p:nvPr/>
        </p:nvPicPr>
        <p:blipFill>
          <a:blip r:embed="rId1"/>
          <a:stretch/>
        </p:blipFill>
        <p:spPr>
          <a:xfrm>
            <a:off x="3657600" y="31240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telepathy.jpg"/>
          <p:cNvPicPr/>
          <p:nvPr/>
        </p:nvPicPr>
        <p:blipFill>
          <a:blip r:embed="rId2"/>
          <a:stretch/>
        </p:blipFill>
        <p:spPr>
          <a:xfrm>
            <a:off x="7238880" y="5029200"/>
            <a:ext cx="1685880" cy="1676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telescope.jpg"/>
          <p:cNvPicPr/>
          <p:nvPr/>
        </p:nvPicPr>
        <p:blipFill>
          <a:blip r:embed="rId3"/>
          <a:stretch/>
        </p:blipFill>
        <p:spPr>
          <a:xfrm>
            <a:off x="380880" y="39625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telegram.jpg"/>
          <p:cNvPicPr/>
          <p:nvPr/>
        </p:nvPicPr>
        <p:blipFill>
          <a:blip r:embed="rId4"/>
          <a:stretch/>
        </p:blipFill>
        <p:spPr>
          <a:xfrm>
            <a:off x="2895480" y="4800600"/>
            <a:ext cx="2181240" cy="1752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television.jpg"/>
          <p:cNvPicPr/>
          <p:nvPr/>
        </p:nvPicPr>
        <p:blipFill>
          <a:blip r:embed="rId5"/>
          <a:stretch/>
        </p:blipFill>
        <p:spPr>
          <a:xfrm>
            <a:off x="6477120" y="1522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RM, THERMO, THERM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560" y="159984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a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o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ea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ostat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to set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atherm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m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6" descr="thermal.jpg"/>
          <p:cNvPicPr/>
          <p:nvPr/>
        </p:nvPicPr>
        <p:blipFill>
          <a:blip r:embed="rId1"/>
          <a:stretch/>
        </p:blipFill>
        <p:spPr>
          <a:xfrm>
            <a:off x="533520" y="3505320"/>
            <a:ext cx="2361960" cy="1523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thermometer.jpg"/>
          <p:cNvPicPr/>
          <p:nvPr/>
        </p:nvPicPr>
        <p:blipFill>
          <a:blip r:embed="rId2"/>
          <a:stretch/>
        </p:blipFill>
        <p:spPr>
          <a:xfrm>
            <a:off x="2666880" y="5410080"/>
            <a:ext cx="2210040" cy="1152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thermos.jpg"/>
          <p:cNvPicPr/>
          <p:nvPr/>
        </p:nvPicPr>
        <p:blipFill>
          <a:blip r:embed="rId3"/>
          <a:stretch/>
        </p:blipFill>
        <p:spPr>
          <a:xfrm>
            <a:off x="6172200" y="5029200"/>
            <a:ext cx="1752480" cy="1095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thermostat.jpg"/>
          <p:cNvPicPr/>
          <p:nvPr/>
        </p:nvPicPr>
        <p:blipFill>
          <a:blip r:embed="rId4"/>
          <a:stretch/>
        </p:blipFill>
        <p:spPr>
          <a:xfrm>
            <a:off x="6781680" y="0"/>
            <a:ext cx="204804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5-19T16:45:06Z</dcterms:modified>
  <cp:revision>23</cp:revision>
  <dc:subject/>
  <dc:title>Roots List #1</dc:title>
</cp:coreProperties>
</file>